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5196-387B-4702-A04B-D1D3621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9353-5660-423F-AA30-71B7A29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0932-8B9E-4BA7-9D5C-9AB75B42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8211-7E64-450C-BAF6-40AAAA14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A6A-2F69-4C7F-AB1E-D8123B6E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7C7-1DA0-4710-B66D-AE9D741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E754-87F6-431E-9FDC-80120D1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093-FF28-4612-9BA2-8D2E48E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F11-6744-4831-B8E6-B2DF04B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8F7-E182-49E9-A409-2EDDC26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C5C-1454-4ECA-A6AB-1399FF9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1B67-9D00-40E5-BE28-7EE44A5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5C93-FF4C-4C3A-B1A3-D4FD268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86E-F454-4F24-8DCE-C3495D6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3B0-330D-4C71-8931-348A96C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6C0E-7356-490B-85E9-FE5A2415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DAF9-E380-45EE-BE29-B8CAD716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F8C6-1BC0-418D-80CC-865C3C3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C3B8-C7C9-499B-967B-EDAD41CA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3744-058A-4B47-A734-04BF7468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9507-11F6-462C-B04E-96E483C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D9E0-ECCB-454C-80B9-A399141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9A42-401C-4934-9EBF-1EE88F7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6CFE-32A9-41DD-BE85-A78C812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481A-50D6-4A27-B02C-7271C4D1D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C6F-E8BF-4977-BB93-D80083588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1560" y="1596960"/>
            <a:ext cx="6912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"/>
              </a:rPr>
              <a:t>Язык разметки гипертекста </a:t>
            </a: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HTM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36560" y="1028880"/>
            <a:ext cx="76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eb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-страниц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гипертекст – текст, в который встроены специальные коды (теги), управляющие дополнительными элементами: форматированием текста, иллюстрациями, мультимедийными вставками, гиперссылками на други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640" y="381960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траницы создаются с помощью специального языка – языка разметки гипертек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55800" y="4967280"/>
            <a:ext cx="3073680" cy="1320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79560" y="40644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93840"/>
            <a:ext cx="43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36560" y="102888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траницы, размещаемые в сети Интернет, передаются по сети с помощью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отокола обмена информацией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9560" y="40644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93840"/>
            <a:ext cx="43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20840" y="1887480"/>
            <a:ext cx="412740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33560" y="4076640"/>
            <a:ext cx="4305240" cy="191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6560" y="1028880"/>
            <a:ext cx="767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ы язы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 помощью которых выполняется размет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траницы, называются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егам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ги – это набор симв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теги начинаются с символа «меньше» (&lt;) и заканчиваются символом «больше» (&gt;). Пару этих символов называют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гловыми</a:t>
            </a:r>
            <a:r>
              <a:rPr b="1" lang="ru-RU" sz="1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коб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нутри угловых скобок записывается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лючевое сло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4960" y="312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40644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3680" y="39384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еги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3398760" cy="159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84520" y="3422520"/>
            <a:ext cx="49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ый тег в языке HTML имеет специальное назначение. Регистр букв в ключевых словах тегов не имеют значения: можно использовать как заглавные, так и строчные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6560" y="102888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Теги быв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 П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79560" y="40644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3680" y="39384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еги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8840" y="1700280"/>
            <a:ext cx="345600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22160" y="2747880"/>
            <a:ext cx="19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 Неп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4840" y="1325520"/>
            <a:ext cx="52196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правило, один тег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оздействует только на часть документа (например, на абзац). Тогда используют парные теги. Открывающий тег создает эффект, а закрывающий – прекращает его действие. Ключево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закрывающего тега начинается с символа косой черты (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35120" y="3129120"/>
            <a:ext cx="8061120" cy="95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5120" y="411156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 Теги  с атрибу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5120" y="4465800"/>
            <a:ext cx="817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трибуты влияют на эффект, создаваемый тегом. То есть, атрибуты определяют "силу" (значение) этого влия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093680" y="4992840"/>
            <a:ext cx="7104240" cy="153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35120" y="801720"/>
            <a:ext cx="35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остейшая веб-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79560" y="40644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4280" y="3841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труктура документа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5120" y="1168560"/>
            <a:ext cx="5707080" cy="2125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5120" y="3309840"/>
            <a:ext cx="72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как это выглядит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на экра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в окне программы-брауз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8120" y="3710160"/>
            <a:ext cx="6470640" cy="290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ь блокн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html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head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title&gt;Мой первый шаг &lt;/title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/head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body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ствуйте, это моя первая страниц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/body&gt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окончания изменить расширение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ткрыть фай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985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тематику будущего сайта. Подготовить всю необходимую для него информацию   (текст, изображ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1:36:18Z</dcterms:created>
  <dc:creator>NikolaevaVA</dc:creator>
  <dc:description/>
  <dc:language>en-US</dc:language>
  <cp:lastModifiedBy>Маришка</cp:lastModifiedBy>
  <dcterms:modified xsi:type="dcterms:W3CDTF">2015-03-15T09:51:32Z</dcterms:modified>
  <cp:revision>39</cp:revision>
  <dc:subject/>
  <dc:title>Слайд 1</dc:title>
</cp:coreProperties>
</file>